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2BF9-7E62-4696-83D0-BBA35CE06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84F6-ECC6-47C2-8D33-63DB8F5540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olitics:  legislation, diplomacy/treaties, voting, campaig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BBBF-D6DC-4001-9DE2-6A3E9E27B6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lection in Iraq, following start of war; slant drilling as example of violating sovereignty (cause of first Gulf War); MN smoking ban, when first passed wasn’t for whole state, causing disputes among municipalities (law having geographic component to 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A52-E596-4078-A40C-1E67DCA53B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on left shows all the nations of Africa, which colonial powers ignored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licts ever si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BBEF-4851-4AF9-B676-D3484C11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141D-4FC1-4506-935E-066385A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622C-3520-490B-82D7-778D2D3F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24BF-01A4-473D-95DA-3766D484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2698-3065-4F89-89FD-B5B6CA39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BDDB-DD6E-4650-8474-B3877982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BE4E-33E5-4954-9D39-F27205C0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035D-C2B3-4CA3-BC27-393EA912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62A1-BF5D-48AB-800F-DFE099B6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BC29-CFB2-488E-AA89-173371D5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EAAE-F9B4-42C7-B82D-79149DCB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63DE-1484-4569-BFDA-C38EF950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B1F1-3ECF-45B6-AFE1-CC13886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134D-D00F-413A-8A8A-3E710F1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9E7F-7C17-4972-A461-4F9C470C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2DA2-D009-4D86-9A79-F3E0A632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9EF9-B651-4102-A2C8-E9E1DFDE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099A-1EA3-48A8-B0C4-0ABB4DF4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19630-8109-4B2D-AA94-AC0A1D7C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C2F7-BA2A-4DD0-B6E9-6211B772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562C-EA33-4DFA-8275-80C390EC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B6B4-3853-4736-9CBA-1853DC55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8341-E11F-4960-A6A0-3B1A4297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33E70-51CF-46C9-A2C1-41AFAD94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9C74-CC63-4988-B219-17004BEAD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E322-0F6F-410F-B413-D9A474B309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cal Ge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political geography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study of the interaction between political processes and the distributions of all other activities and transformations of the landscape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cs Across Sp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 everyone shares the same political values; these values can vary geographical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olitical belief is shared in almost all places: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erritory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s very important.  Wh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0" descr="house%20legislature"/>
          <p:cNvPicPr/>
          <p:nvPr/>
        </p:nvPicPr>
        <p:blipFill>
          <a:blip r:embed="rId1"/>
          <a:stretch/>
        </p:blipFill>
        <p:spPr>
          <a:xfrm>
            <a:off x="457200" y="6858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bill-arafat-rabin-treaty"/>
          <p:cNvPicPr/>
          <p:nvPr/>
        </p:nvPicPr>
        <p:blipFill>
          <a:blip r:embed="rId2"/>
          <a:stretch/>
        </p:blipFill>
        <p:spPr>
          <a:xfrm>
            <a:off x="4648320" y="685800"/>
            <a:ext cx="4114800" cy="2906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mapcolors"/>
          <p:cNvPicPr/>
          <p:nvPr/>
        </p:nvPicPr>
        <p:blipFill>
          <a:blip r:embed="rId3"/>
          <a:stretch/>
        </p:blipFill>
        <p:spPr>
          <a:xfrm>
            <a:off x="457200" y="3733920"/>
            <a:ext cx="3886200" cy="242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ttp://chumaspiritmagazine.typepad.com/barak_obama.jpg"/>
          <p:cNvPicPr/>
          <p:nvPr/>
        </p:nvPicPr>
        <p:blipFill>
          <a:blip r:embed="rId4"/>
          <a:stretch/>
        </p:blipFill>
        <p:spPr>
          <a:xfrm>
            <a:off x="4495680" y="3657600"/>
            <a:ext cx="243864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http://www.pastemagazine.com/blogs/ctrl-v/2008/08/29/bg/who-is-john-mccain.jpg"/>
          <p:cNvPicPr/>
          <p:nvPr/>
        </p:nvPicPr>
        <p:blipFill>
          <a:blip r:embed="rId5"/>
          <a:stretch/>
        </p:blipFill>
        <p:spPr>
          <a:xfrm>
            <a:off x="6781680" y="3657600"/>
            <a:ext cx="2181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cal Geograph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itical geography focuses less on the “How?  Who?  When?” of politics and more on how politics affects where people do things (human behaviors) and how places affect polit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Voting"/>
          <p:cNvPicPr/>
          <p:nvPr/>
        </p:nvPicPr>
        <p:blipFill>
          <a:blip r:embed="rId1"/>
          <a:stretch/>
        </p:blipFill>
        <p:spPr>
          <a:xfrm>
            <a:off x="380880" y="533520"/>
            <a:ext cx="3810240" cy="28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minnesota-county-map"/>
          <p:cNvPicPr/>
          <p:nvPr/>
        </p:nvPicPr>
        <p:blipFill>
          <a:blip r:embed="rId2"/>
          <a:stretch/>
        </p:blipFill>
        <p:spPr>
          <a:xfrm>
            <a:off x="4648320" y="1143000"/>
            <a:ext cx="3948120" cy="437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1" descr="smokefree"/>
          <p:cNvPicPr/>
          <p:nvPr/>
        </p:nvPicPr>
        <p:blipFill>
          <a:blip r:embed="rId3"/>
          <a:stretch/>
        </p:blipFill>
        <p:spPr>
          <a:xfrm>
            <a:off x="7086600" y="350532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drilltypes"/>
          <p:cNvPicPr/>
          <p:nvPr/>
        </p:nvPicPr>
        <p:blipFill>
          <a:blip r:embed="rId4"/>
          <a:stretch/>
        </p:blipFill>
        <p:spPr>
          <a:xfrm>
            <a:off x="380880" y="3581280"/>
            <a:ext cx="38102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cal Geography: 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itics is done at all scales, so political geography studies all sc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c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e/Provinci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io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rnationa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tical Geograph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We Can Lear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litical Geography helps us understand much of what happens in the world, in the past and to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countries are formed, organized, and fun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countries deal with divisive fo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israel_map"/>
          <p:cNvPicPr/>
          <p:nvPr/>
        </p:nvPicPr>
        <p:blipFill>
          <a:blip r:embed="rId1"/>
          <a:stretch/>
        </p:blipFill>
        <p:spPr>
          <a:xfrm>
            <a:off x="609480" y="4343400"/>
            <a:ext cx="261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state2"/>
          <p:cNvPicPr/>
          <p:nvPr/>
        </p:nvPicPr>
        <p:blipFill>
          <a:blip r:embed="rId2"/>
          <a:stretch/>
        </p:blipFill>
        <p:spPr>
          <a:xfrm>
            <a:off x="3276720" y="4343400"/>
            <a:ext cx="300024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ero"/>
          <p:cNvPicPr/>
          <p:nvPr/>
        </p:nvPicPr>
        <p:blipFill>
          <a:blip r:embed="rId3"/>
          <a:stretch/>
        </p:blipFill>
        <p:spPr>
          <a:xfrm>
            <a:off x="6324480" y="4343400"/>
            <a:ext cx="251460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tical Geograph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We Can Lear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ole of boundaries, why they change, effects of changing bounda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5" descr="germany"/>
          <p:cNvPicPr/>
          <p:nvPr/>
        </p:nvPicPr>
        <p:blipFill>
          <a:blip r:embed="rId1"/>
          <a:stretch/>
        </p:blipFill>
        <p:spPr>
          <a:xfrm>
            <a:off x="6095880" y="3276720"/>
            <a:ext cx="2708280" cy="3200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BGateWallFall"/>
          <p:cNvPicPr/>
          <p:nvPr/>
        </p:nvPicPr>
        <p:blipFill>
          <a:blip r:embed="rId2"/>
          <a:stretch/>
        </p:blipFill>
        <p:spPr>
          <a:xfrm>
            <a:off x="3048120" y="4343400"/>
            <a:ext cx="2971800" cy="20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www.cnn.com/WORLD/9708/25/berlin.wall.deaths/germany.map.jpg"/>
          <p:cNvPicPr/>
          <p:nvPr/>
        </p:nvPicPr>
        <p:blipFill>
          <a:blip r:embed="rId3"/>
          <a:stretch/>
        </p:blipFill>
        <p:spPr>
          <a:xfrm>
            <a:off x="228600" y="3276720"/>
            <a:ext cx="272556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tical Geograph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We Can Lear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fects of colonialism and imperial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5" descr="A010"/>
          <p:cNvPicPr/>
          <p:nvPr/>
        </p:nvPicPr>
        <p:blipFill>
          <a:blip r:embed="rId1"/>
          <a:stretch/>
        </p:blipFill>
        <p:spPr>
          <a:xfrm>
            <a:off x="685800" y="2133720"/>
            <a:ext cx="3851280" cy="4343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africa"/>
          <p:cNvPicPr/>
          <p:nvPr/>
        </p:nvPicPr>
        <p:blipFill>
          <a:blip r:embed="rId2"/>
          <a:stretch/>
        </p:blipFill>
        <p:spPr>
          <a:xfrm>
            <a:off x="4648320" y="2133720"/>
            <a:ext cx="423360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litical Geography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We Can Lear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nternational organizations, such as the United Nations, can and cannot do to help create peace and help people in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5" descr="unicef-05-0004-big"/>
          <p:cNvPicPr/>
          <p:nvPr/>
        </p:nvPicPr>
        <p:blipFill>
          <a:blip r:embed="rId1"/>
          <a:stretch/>
        </p:blipFill>
        <p:spPr>
          <a:xfrm>
            <a:off x="762120" y="3276720"/>
            <a:ext cx="3886200" cy="265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Rwanda: génocide des Tutsis par les Hutus"/>
          <p:cNvPicPr/>
          <p:nvPr/>
        </p:nvPicPr>
        <p:blipFill>
          <a:blip r:embed="rId2"/>
          <a:stretch/>
        </p:blipFill>
        <p:spPr>
          <a:xfrm>
            <a:off x="4800600" y="3276720"/>
            <a:ext cx="403848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20:02:40Z</dcterms:created>
  <dc:creator>sforsland</dc:creator>
  <dc:description/>
  <dc:language>en-US</dc:language>
  <cp:lastModifiedBy>hberndt</cp:lastModifiedBy>
  <dcterms:modified xsi:type="dcterms:W3CDTF">2010-04-05T12:00:04Z</dcterms:modified>
  <cp:revision>12</cp:revision>
  <dc:subject/>
  <dc:title>Political Geography</dc:title>
</cp:coreProperties>
</file>